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EED-B7FD-4A47-9301-AA6177B4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649368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1EA-0582-4781-9637-85340656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7996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A7B-CE0A-4749-BB3F-2AA6C115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396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2828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396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2828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517-4A73-4793-99B3-5F0EE738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0BAA-7B25-4CBB-9626-2EDD4814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8F19-C62E-4180-83F9-9A915F41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97F0-315C-4E78-9BDC-36A1BAC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E80D-7C75-4BDD-BE29-99932A4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B700-16D8-4D39-A69C-15AC3A7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525780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5CEE-20BE-4890-BA86-396D7720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7084-36F9-49B5-822D-960843ED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798-B163-4976-B0E3-1836722F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7996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E620-F0EE-4D91-9C5F-C6A80005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486A-A7FC-4D5F-9EE0-FAB0271B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649368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30B1-8EDB-497E-8A88-D5928D52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7996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9226-8A2E-47B0-841F-070AC097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6396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328280" y="609552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6396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328280" y="6493680"/>
            <a:ext cx="20606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B8F2-A92F-4B25-811F-4DE339F8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07E-AF60-4FDE-9ED1-29C8CC4E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E47-CCE0-4264-A55D-A033B06B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A1C-FF1C-46E6-8F1A-1BEC316B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525780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05C-D684-4CCC-ADB7-A383D06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93C-7BE3-4B77-B5B6-A862940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79960" y="649368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D22-7CFA-4CA5-B990-A21D1FC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79960" y="6095520"/>
            <a:ext cx="312336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6493680"/>
            <a:ext cx="640080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88D-EB66-4260-9029-7000C84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1678-DA3C-46A4-9CE0-EC93B7F04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7053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7053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C13E-D5DF-4577-89D8-8CA6DBCD8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Forte"/>
              </a:rPr>
              <a:t>Sailing into Uncharted Waters</a:t>
            </a: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NC 4-H Study of Positive Youth Developmen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ponsibilities for the Stud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ain support from Extension and partner organizations for conducting the stu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ster knowledge and skills in data collection and management, IRB process, 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ain parent consent/youth ass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ponsibilities for the Stud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ordinate facility, methods, materials, procedures, people during data collection and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terpret results to participating communities and the county i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5640" y="9140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rget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60 statewide (avg. 60 per distric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presentation from rural, urban, sm.t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95% full comple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0 statewide (as many as possi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presentation from rural, urban, sm.t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95% full comple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9140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rget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munity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onger links with existing partners (roles/tasks, contacts, shared effort/fun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nks with new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munity in Gene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isibility/perception by decision-makers (roles, programs, expertise, resour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isibility/perception by citiz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5640" y="9140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rget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erienced/Well-supported 4-H sta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liable, timely community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ccess via facilities,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ptive parent, youth popu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5257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Forte"/>
              </a:rPr>
              <a:t>Deeper Water</a:t>
            </a:r>
            <a:endParaRPr b="1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6095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Arial"/>
              </a:rPr>
              <a:t>Resources for Implementation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scription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tionwide, longitudinal study of 4-H and non   4-H youth (now in Wave 6: 1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rveys (paper, online) of youth and parents: health/habits, values, life skills, perceptions of self &amp; others, family &amp; social relationships, service and civic involvement, life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scription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tionwide, longitudinal study of 4-H and non   4-H youth (now in Wave 6: 1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gra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rveys (paper, online) of youth and parents: health/habits, values, life skills, perceptions of self &amp; others, family &amp; social relationships, service and civic involvement, life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scription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ports on groups of 20+ y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llaboration of 4-H programs with Tufts University, funded by National 4-H Counc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rpose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tter understand youth development and youth programming eff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sitive youth development focus (achievement, service, relationshi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rrelations of family and community involvement with positive outco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ts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-depth &amp; ongoing data about youth development and youth programming eff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pportunities to contribute to the most extensive research ever conducted on PY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pportunities to collaborate/enhance collaboration and reputation with community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ts of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fessional growth in evaluation and research skills, with opportunities to report results in multiple ven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pportunities to introduce (or expand perceptions of) 4-H and recruit youth, volunteers, sponsors, or part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hance data benchmarks for programming, grant applications, current &amp; future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ource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aining and operational resources in project development, recruitment, parent consent, data collection, and marketing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ources for the Stu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sultants available at the state 4-H office, national project coordinator, researchers at Tufts (plus links to agent-facilitators nationwid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centives for leaders, partners and participating y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41:42Z</dcterms:created>
  <dc:creator>bsillim</dc:creator>
  <dc:description/>
  <dc:language>en-US</dc:language>
  <cp:lastModifiedBy>bsillim</cp:lastModifiedBy>
  <dcterms:modified xsi:type="dcterms:W3CDTF">2008-01-10T16:10:25Z</dcterms:modified>
  <cp:revision>88</cp:revision>
  <dc:subject/>
  <dc:title>Slide 1</dc:title>
</cp:coreProperties>
</file>